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camera.wav" ContentType="audio/x-wav"/>
  <Override PartName="/ppt/media/image7.jpeg" ContentType="image/jpeg"/>
  <Override PartName="/ppt/media/breeze.wav" ContentType="audio/x-wav"/>
  <Override PartName="/ppt/media/whoosh.wav" ContentType="audio/x-wav"/>
  <Override PartName="/ppt/media/image3.jpeg" ContentType="image/jpeg"/>
  <Override PartName="/ppt/media/applause.wav" ContentType="audio/x-wav"/>
  <Override PartName="/ppt/media/image4.jpeg" ContentType="image/jpeg"/>
  <Override PartName="/ppt/media/laser.wav" ContentType="audio/x-wav"/>
  <Override PartName="/ppt/media/image5.jpeg" ContentType="image/jpeg"/>
  <Override PartName="/ppt/media/chimes.wav" ContentType="audio/x-wav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C8C-623C-43A0-8F44-1EC6A68D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F72-006D-4432-8AC1-CB9C8C11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308-78E1-4ACC-ACC5-5860DE09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FED-E8B1-4ECE-B030-1933C3D7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4693-C23C-499E-A630-EA609CB8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9E1-A39E-45B0-9EA8-414058C8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A40B-C7BD-4396-83B7-B28CD406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6FC-705D-465F-9FB5-F6AC9D86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61E-5F31-43CC-B63E-DD00D84B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E06-0628-4647-9156-66F7B99D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6CC-CCD5-48C9-97CC-700919F5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8023-6622-464B-996F-DDE1B98C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390C-8FAB-423D-B842-B58E5FB52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national-symbol.com/S/Senegal/senegal-flag.gif&amp;imgrefurl=http://www.national-symbol.com/S/Senegal/Senegal-national-symbol.htm&amp;h=333&amp;w=500&amp;sz=4&amp;hl=en&amp;start=56&amp;usg=__fH1DMhMTYVo_SVYcA6Tgks0x-do=&amp;tbnid=hihytVEkhdwhZM:&amp;tbnh=87&amp;tbnw=130&amp;prev=/images%3Fq%3Dflag%2Bof%2Bsenegal%26start%3D54%26gbv%3D2%26ndsp%3D18%26hl%3Den%26sa%3DN" TargetMode="External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buildllc.files.wordpress.com/2007/12/09_20_fish700847.jpg&amp;imgrefurl=http://blog.buildllc.com/2007/12/10/the-year-in-ideas-diagrams/&amp;usg=__1We-H6Oy9j7SApUjkZ8yIn_eaik=&amp;h=484&amp;w=400&amp;sz=196&amp;hl=en&amp;start=1&amp;tbnid=VD7jdUUDimZ5LM:&amp;tbnh=129&amp;tbnw=107&amp;prev=/images%3Fq%3Dpictures%2Bof%2Bdifferent%2Bfish%26gbv%3D2%26hl%3Den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ne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ber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-30-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breez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egal is located in the western part of Africa.  This state is just of the coast of the Atlantic Oc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egal’s flag is </a:t>
            </a:r>
            <a:r>
              <a:rPr b="0" lang="en-US" sz="3200" spc="-1" strike="noStrike">
                <a:solidFill>
                  <a:srgbClr val="3d8f39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a </a:t>
            </a:r>
            <a:r>
              <a:rPr b="0" lang="en-US" sz="3200" spc="-1" strike="noStrike">
                <a:solidFill>
                  <a:srgbClr val="3d8f39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d8f39"/>
                </a:solidFill>
                <a:latin typeface="Arial"/>
              </a:rPr>
              <a:t>sta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iddle of the yellow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3352680"/>
            <a:ext cx="281952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negal’s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February 1, 1982 Senegal joined with The Gambia to form the nominal confederation of Senegamb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visaged interagation of two countrieswas never carried out and the union was dissolved in 198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n named Abdou Diouf was president between 1981-2000. he encouraged broader politicalparticio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dou Diouf  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194148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las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it’s more 45 years as an independent state, Senegal has been politically st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structure is- Federal Re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- Abdoulaye W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 Minister- Cheikh Hadjibou Soum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s and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, groundnuts (peanuts), phosphates, petroleum products, and cot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ken, Chinese milk, food and beverages, and capital g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4410000"/>
            <a:ext cx="2030400" cy="244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629400" y="4762440"/>
            <a:ext cx="2514600" cy="209556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5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3:01:38Z</dcterms:created>
  <dc:creator>amberhall</dc:creator>
  <dc:description/>
  <dc:language>en-US</dc:language>
  <cp:lastModifiedBy>amberhall</cp:lastModifiedBy>
  <dcterms:modified xsi:type="dcterms:W3CDTF">2008-11-13T16:38:40Z</dcterms:modified>
  <cp:revision>13</cp:revision>
  <dc:subject/>
  <dc:title>Senegal</dc:title>
</cp:coreProperties>
</file>